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237-02CB-433B-96E0-20E4267A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48B-1A07-40E4-B83C-5377AE2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AA5-209F-4C1B-A21D-44C9B056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F83-2012-4532-8F39-A189650B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CA5E-4400-4272-A7FC-3E10BC8B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71C6-FFDB-4571-AA94-D8A5FBE5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3442-490A-4C6E-96EA-5D6F75D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F8A8-C6E4-4B97-88EB-48802364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B64A-3811-4F20-8AC4-05115616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2F7-7308-4757-84D0-6E3DDD0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D18-87D6-42CD-9A69-7F72E81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789-31B6-4F87-A40F-9BD27B6F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B4C-C5C6-41C4-BD96-F12C7D4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5F72-082C-4E99-9E46-834DB07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0324-CEF4-4961-8854-A767CE1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FA8E-B51A-4D67-8349-4D470DB6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7384-1192-4848-8462-C5A216FC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E5A8-0F8D-4BB8-94D2-55293F26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19C9-9C9C-45AA-8B65-0071ECC8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98E3-0414-4C34-8B22-C9C356B1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5BD2-7B37-4E54-961F-B8FE768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41AB-6E80-43C0-9ED3-1279A1AA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D30-4658-4BF5-9487-FD9022DF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799A-A291-49C9-A521-F8AA5EB5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3463-3E0C-44CA-ACC6-C18BD36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93EF-F4B3-468B-88C0-7EDF9400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54BD-2254-4E93-8200-D4625D0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FBFB-89BC-476F-ABEE-35F04424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19EF-2E9C-4BB7-8011-6BBF3096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5C59-A835-4249-AA24-D75DE196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A47E-A0FD-468B-9A56-A4EB888C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C362-37F0-4689-B2B5-B54AE427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A9C8-EEEF-486D-B44B-A51A32F7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9C7-FDA3-4348-AA1A-B7EEE7E5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1A77-1473-443E-8097-8D89F49B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3EF4-85DD-470B-8B91-8543BBF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267C-2CA2-4D8D-BF51-34BC426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3BE7-A969-4163-A136-F3B355C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5214-8E79-4E5F-9B63-74546DB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4548-35A0-423B-B633-B77FB29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6A7B-31F6-4842-BA1E-EE2965D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6F95-AF56-4A88-9541-61396029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5E5D-7BD6-4281-BAB6-5A4538D2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681-1F23-4569-9C37-A2008EA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7DA-EC9B-40CD-AF23-641B71D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BE8-6441-43E7-B2FC-B712446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E39-B889-457F-A679-5D1AED5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474-0A36-440B-9DB7-4E75CD54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3EDC7-3880-4A01-AF74-20D05A47BFE6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02AFB-B650-4FDE-BF2D-335B7C7CA33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DB8E6-20BC-4053-BDB7-AFBDB56F5602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58293-13CF-40E7-AE83-B05869ADB77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B32B2-AB9D-4550-9534-7CE2629912CC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3EFF0-DCDE-41B7-9EE0-78E4017EDCD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0D55E-41B1-413F-BB74-33F211425BFF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AF388-6907-4747-9250-6D18989FFC3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pic>
        <p:nvPicPr>
          <p:cNvPr id="165" name="Title 1" descr=""/>
          <p:cNvPicPr/>
          <p:nvPr/>
        </p:nvPicPr>
        <p:blipFill>
          <a:blip r:embed="rId3"/>
          <a:stretch/>
        </p:blipFill>
        <p:spPr>
          <a:xfrm>
            <a:off x="414360" y="1365120"/>
            <a:ext cx="8242200" cy="1890720"/>
          </a:xfrm>
          <a:prstGeom prst="rect">
            <a:avLst/>
          </a:prstGeom>
          <a:ln w="0">
            <a:noFill/>
          </a:ln>
        </p:spPr>
      </p:pic>
      <p:pic>
        <p:nvPicPr>
          <p:cNvPr id="166" name="Subtitle 2" descr=""/>
          <p:cNvPicPr/>
          <p:nvPr/>
        </p:nvPicPr>
        <p:blipFill>
          <a:blip r:embed="rId4"/>
          <a:stretch/>
        </p:blipFill>
        <p:spPr>
          <a:xfrm>
            <a:off x="1365120" y="3882960"/>
            <a:ext cx="64137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encyclopedia.com/topic/whaling.aspx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wedishwire.com/nordic/sosl-whale-hunting-facts-and-figures-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nimal.discovery.com/tv/whale-wars/whaling/why-japanese-hunt-whales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359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) Which country still whale today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) kore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) chin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) phillipin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) jap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) The _______ is used to kill whal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3) What are whales used f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) Japan says they hunt whales mainly for…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) fu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) scientific resear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) Test out weapon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5) The International Whaling Commision (IWC) was formed in _________  ______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) What is a Factory Ship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7) Whaling is usually done from _______’s or ______’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) The harpoon was invented by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) Richard 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) Bill Ga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) Sven Foy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Questions Continued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9) Whaling is when you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) Ride wha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) Train wha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) Play with wha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) Hunt whal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) Other groups such as Green ______ became very involved in the attempts to stop whal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75960" y="1142640"/>
            <a:ext cx="345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when you hunt whale’s for the oil and meat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il was used to fuel lamps b4 electri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y are also hunted for their baleen which is whale bo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3835440" y="1600200"/>
            <a:ext cx="5003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 The Korean’s have been hunting whales since 5000 B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wegian’s began whaling about 4,000 years ag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ople from the North American coast and the Artic have a long tradition of whal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ling was usually done from canoes or boats using harp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still countries today that continue whaling. Those countries include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Jap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rwa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cel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38098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1932 through 1933 there were attempts made to stop and restrict whale hunt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ternational Whaling Commission (IWC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ed in Washington, D.C., by 17 different nation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lps to limit the number of whales that could be hunt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ther groups such as GreenPeace became very involved in the attempts to stop whal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286000" y="4572000"/>
            <a:ext cx="42973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Japan says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unting them for scientific research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ge, heal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ating whale meat is tradi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environmentalists say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pan is hunting them for mea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pan could find age, health info through other mean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2781360" y="4114800"/>
            <a:ext cx="1866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ttp://animal.discovery.com/videos/whale-wars-a-life-destroyed.htm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ttp://animal.discovery.com/videos/whale-wars-salvaging-the-ady-gil.htm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ttp://www.youtube.com/watch?v=wP7PZMMpgcw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648320" y="312408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200400" y="1417680"/>
            <a:ext cx="5486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harpoon was invented by a norwegian named Sven Foyn.  It was used because it contains an explosive head which would kill a whale instantl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le hunter’s also used factory ships because it was safe and made it easier to catch larger whal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actory ship - a whaling ship equipped to process whale products at se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ke whales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thern Hemisphere minke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n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yde's wha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i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rm wh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2:31:18Z</dcterms:created>
  <dc:creator>PA Department of Education Classrooms for the Future</dc:creator>
  <dc:description/>
  <dc:language>en-US</dc:language>
  <cp:lastModifiedBy>SASD</cp:lastModifiedBy>
  <dcterms:modified xsi:type="dcterms:W3CDTF">2011-02-10T14:16:22Z</dcterms:modified>
  <cp:revision>9</cp:revision>
  <dc:subject/>
  <dc:title>Japanese Whaling</dc:title>
</cp:coreProperties>
</file>